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ED78-5D3B-4EAF-A987-F020D4977F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1A99-43FD-4C22-8958-B534BAB4606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4AF7-7587-4D26-8A42-E7973E33B36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94A4-190F-483A-96E9-A1F452F7C33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C7A0-DF49-4081-865C-A18C60C963E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3D05-17B4-43FD-8CFB-8A11EAA4257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FB819-8871-475A-80B9-71A98EB7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01048-26FB-47A1-8A0E-6D930ADB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35DB2-1838-45B1-B325-C0F30290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BB5DA-8550-4EDF-8C5B-F002BAED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1D64F-60C3-4178-A41A-2A0B7B60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E8A6B-623E-4C43-B305-2306884D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53554-E749-4ED6-8102-EB676BAA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6A32C-1689-443F-AA5A-E95058A2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34D23-01E3-4917-A7D9-CD0EC274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2CD85-6EBB-42B8-A037-6351CAA7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4E8BB-3917-4E90-BCF2-7B1F9800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DD10B-909F-4CE2-988E-DB786BF8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5CAB6-0E29-4B9B-981A-EBE8858B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BA6CA-6819-46B5-9B82-C093EB9A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B52DC-EB76-40E2-8A8D-52F7C22D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C5D49-4ABC-423B-990F-B2C28173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C49FD-8AE0-4874-A7A1-E1C0034A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35E89-EFD5-4C7E-9046-4119F6A2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159F1-EEEA-4FD4-9CB8-32746154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76ABB-B66C-4056-91F4-447DFA75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C3386-CBB7-4387-8852-6C3849D5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5970F-FBE6-422D-9E43-8418D087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D915D-2F2D-4536-9E88-FFFF8BAF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C7D90-D9EA-4AFD-AE1A-4DA4E3EF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8C7F-0432-4636-8341-BDACFF63E61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DBC6-1A9F-40EA-B594-901C0922D5A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BE35-6B62-49FB-8A3B-EBD5FFA7A4B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EF01-6AED-46C0-9D01-1B1B05D05FB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0A11-FCB7-43B0-A544-B3E38F5636C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F032-CBBD-427E-9B6A-774F7C94EBA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ACBB-D1DF-420E-BA59-F0211204177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857C-6436-4EAD-AD13-AFDD7062E48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7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7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7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42920" y="0"/>
            <a:ext cx="9001080" cy="6259680"/>
            <a:chOff x="142920" y="0"/>
            <a:chExt cx="9001080" cy="6259680"/>
          </a:xfrm>
        </p:grpSpPr>
        <p:grpSp>
          <p:nvGrpSpPr>
            <p:cNvPr id="521" name="그룹 1"/>
            <p:cNvGrpSpPr/>
            <p:nvPr/>
          </p:nvGrpSpPr>
          <p:grpSpPr>
            <a:xfrm>
              <a:off x="142920" y="500040"/>
              <a:ext cx="8929080" cy="5759640"/>
              <a:chOff x="142920" y="500040"/>
              <a:chExt cx="8929080" cy="5759640"/>
            </a:xfrm>
          </p:grpSpPr>
          <p:sp>
            <p:nvSpPr>
              <p:cNvPr id="522" name="AutoShape 2"/>
              <p:cNvSpPr/>
              <p:nvPr/>
            </p:nvSpPr>
            <p:spPr>
              <a:xfrm>
                <a:off x="142920" y="1357200"/>
                <a:ext cx="8820720" cy="485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3" name="AutoShape 4"/>
              <p:cNvSpPr/>
              <p:nvPr/>
            </p:nvSpPr>
            <p:spPr>
              <a:xfrm>
                <a:off x="285480" y="50004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Text Box 6"/>
              <p:cNvSpPr/>
              <p:nvPr/>
            </p:nvSpPr>
            <p:spPr>
              <a:xfrm>
                <a:off x="251280" y="1465200"/>
                <a:ext cx="8820720" cy="479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6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도시에 거주하지만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가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자체의 재정자립도 낮아 노인복지 한계로 농촌 노인문제 심화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구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.9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 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5" name="Picture 2" descr="C:\DOCUME~1\USER\LOCALS~1\Temp\UNI0000080471b7.gif"/>
            <p:cNvPicPr/>
            <p:nvPr/>
          </p:nvPicPr>
          <p:blipFill>
            <a:blip r:embed="rId8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858520" cy="6215400"/>
              <a:chOff x="142920" y="142560"/>
              <a:chExt cx="885852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1280" y="1149120"/>
                <a:ext cx="8750160" cy="507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이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당국은‘의도적으로 눈을 감아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중될 것으로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520"/>
            <a:chOff x="0" y="0"/>
            <a:chExt cx="9144000" cy="650052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560"/>
              <a:chOff x="142560" y="1785960"/>
              <a:chExt cx="8929800" cy="471456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85840"/>
            <a:ext cx="9001080" cy="6357960"/>
            <a:chOff x="0" y="285840"/>
            <a:chExt cx="900108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42560" y="285840"/>
              <a:ext cx="8858520" cy="5446800"/>
              <a:chOff x="142560" y="285840"/>
              <a:chExt cx="8858520" cy="544680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120" y="28584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42560" y="1143000"/>
                <a:ext cx="8858520" cy="450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285120" y="1197000"/>
                <a:ext cx="871596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nom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79280" y="0"/>
            <a:ext cx="8821800" cy="6438600"/>
            <a:chOff x="179280" y="0"/>
            <a:chExt cx="8821800" cy="643860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79280" y="3170160"/>
              <a:ext cx="8821800" cy="3268440"/>
              <a:chOff x="179280" y="3170160"/>
              <a:chExt cx="8821800" cy="326844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79280" y="3566880"/>
                <a:ext cx="878688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및 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기능과 사회적 역할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전후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각의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840" y="142560"/>
              <a:ext cx="7287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2920" y="13186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% +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프리카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40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2920" y="4267080"/>
                <a:ext cx="885924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71280" y="71280"/>
            <a:ext cx="9215640" cy="6286680"/>
            <a:chOff x="71280" y="71280"/>
            <a:chExt cx="921564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1280" y="71280"/>
              <a:ext cx="9000000" cy="1847880"/>
              <a:chOff x="71280" y="71280"/>
              <a:chExt cx="900000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1280" y="642960"/>
                <a:ext cx="900000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480" y="71280"/>
                <a:ext cx="360072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63964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71280" y="2131920"/>
              <a:ext cx="9215640" cy="4226040"/>
              <a:chOff x="71280" y="2131920"/>
              <a:chExt cx="921564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128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142560" y="2786040"/>
                <a:ext cx="914436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1.0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9.8%)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47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grpSp>
          <p:nvGrpSpPr>
            <p:cNvPr id="515" name="그룹 1"/>
            <p:cNvGrpSpPr/>
            <p:nvPr/>
          </p:nvGrpSpPr>
          <p:grpSpPr>
            <a:xfrm>
              <a:off x="181080" y="214200"/>
              <a:ext cx="8820000" cy="4516560"/>
              <a:chOff x="181080" y="214200"/>
              <a:chExt cx="8820000" cy="4516560"/>
            </a:xfrm>
          </p:grpSpPr>
          <p:sp>
            <p:nvSpPr>
              <p:cNvPr id="516" name="AutoShape 2"/>
              <p:cNvSpPr/>
              <p:nvPr/>
            </p:nvSpPr>
            <p:spPr>
              <a:xfrm>
                <a:off x="181080" y="928440"/>
                <a:ext cx="8820000" cy="3724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288720" y="1000080"/>
                <a:ext cx="8640720" cy="37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2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7.6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.4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져 정책우선순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결정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19" name="Picture 2" descr="C:\DOCUME~1\USER\LOCALS~1\Temp\UNI00000c2870a4.gif"/>
            <p:cNvPicPr/>
            <p:nvPr/>
          </p:nvPicPr>
          <p:blipFill>
            <a:blip r:embed="rId6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19:41:32Z</dcterms:modified>
  <cp:revision>18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